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08B1-CDCA-4BD6-9B5C-D7E56E2A6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BDFB-9DD5-4D33-9F04-143C2AD4A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33DF-DC9F-476C-950A-F3E33C4FD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893-7C84-4D70-8C61-06CF06C7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C19-18D0-4F06-9CB2-5EC9A7E3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42B-93FF-4D59-A06D-81ED8836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126-B9F9-4C10-9D17-0A88A455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5D6-6420-4001-A595-77A5C9F2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0C12-9B95-4987-922C-BE399D22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4C9-70B8-44DD-B915-FB6B2B0C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773-13D2-424E-BC9E-A7CDE6FC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4FB1-E012-4ACF-8DEF-9597C922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5E5-CF72-4793-A5E6-3A2F2BF5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3C9-3D56-46EC-8C59-EDD87C51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ABA-B8EB-4BE7-A183-2AF37452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CE00-11E2-429F-B3B7-2E1264BC7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ysha Tu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ysha T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ysha Turan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ysha Tura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ysha Tur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505320"/>
            <a:ext cx="2133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e llamo Aysha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Yo vivo en Astoria. Yo tengo años catorce. Yo tengo dos hermanos y también una hermana. Yo estoy calmada y fe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4038480"/>
            <a:ext cx="54864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Ok esta bien pero podemos comer arroz y habichuela ahora?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54100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Se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ir a la cuidad contigo.                                                                        Ay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438280"/>
            <a:ext cx="5486400" cy="7621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ías Aysha </a:t>
            </a:r>
            <a:r>
              <a:rPr b="0" lang="en-US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Yo estoy muy energica. ¿ tu quiéres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ir a la cuidad?                                              Se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 amiga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 niña. Tu eres muy hermosa y también simpática. ¿Donde esta Aysh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ias tía.¿ Yo estoy en la casa y tu 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Dónde están mis amig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ysha Tu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ysha T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ysha Turan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ysha Tura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ysha Tur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7"/>
          <p:cNvSpPr/>
          <p:nvPr/>
        </p:nvSpPr>
        <p:spPr>
          <a:xfrm>
            <a:off x="0" y="3505320"/>
            <a:ext cx="2133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e llamo Aysha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Yo vivo en Astoria. Yo tengo años catorce. Yo tengo dos hermanos y también una hermana. Yo estoy calmada y fe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7"/>
          <p:cNvSpPr/>
          <p:nvPr/>
        </p:nvSpPr>
        <p:spPr>
          <a:xfrm>
            <a:off x="2743200" y="4038480"/>
            <a:ext cx="54864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Ok esta bien pero podemos comer arroz y habichuela ahora?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819520" y="3276720"/>
            <a:ext cx="54100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Se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ir a la cuidad contigo.                                                                        Ay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7"/>
          <p:cNvSpPr/>
          <p:nvPr/>
        </p:nvSpPr>
        <p:spPr>
          <a:xfrm>
            <a:off x="2743200" y="2438280"/>
            <a:ext cx="5486400" cy="7621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con su familia      Se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 amiga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 niña. Tu eres muy hermosa y también simpática. ¿Donde esta Aysh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ias tía.¿ Yo estoy en la casa y tu 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Dónde están mis amig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43:53Z</dcterms:created>
  <dc:creator>FriscoISD</dc:creator>
  <dc:description/>
  <dc:language>en-US</dc:language>
  <cp:lastModifiedBy>User</cp:lastModifiedBy>
  <dcterms:modified xsi:type="dcterms:W3CDTF">2012-12-06T14:57:54Z</dcterms:modified>
  <cp:revision>107</cp:revision>
  <dc:subject/>
  <dc:title>Profile</dc:title>
</cp:coreProperties>
</file>